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187-B606-4FDC-8145-5CFE113A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913-0B74-4024-9691-90A9F2CD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F19-FBEB-4AB2-A9DC-2F448E32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6E6-B2B0-45C6-BB93-D0C1DBD4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D4B-D4FE-44A6-B772-0E5D348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3C8-2246-4BA7-8B4D-E757D1C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084-E9FF-4C45-AAE6-D649691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CFF-E2DD-454C-B25C-02692D9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D2D-3D38-4BC1-8CAC-C12941A5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B61-6119-4E18-B5AB-35F9020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A38-C8AF-4E8D-8568-7331623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54E-C7BD-41DB-A3F7-A8A59A8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623-B46C-4105-AA6C-6F32FAB1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co TO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9000" y="1221480"/>
            <a:ext cx="461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zionare le celle della tab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26920" y="2133720"/>
          <a:ext cx="7775280" cy="4160520"/>
        </p:xfrm>
        <a:graphic>
          <a:graphicData uri="http://schemas.openxmlformats.org/drawingml/2006/table">
            <a:tbl>
              <a:tblPr/>
              <a:tblGrid>
                <a:gridCol w="2527560"/>
                <a:gridCol w="1576800"/>
                <a:gridCol w="1630800"/>
                <a:gridCol w="2040120"/>
              </a:tblGrid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ite anno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s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bre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T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T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T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 T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6811920" cy="5954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0" y="903600"/>
            <a:ext cx="19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I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RTA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5364360" cy="551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4640"/>
            <a:ext cx="29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siamo fare un’analisi per riga o per colo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ezionare riga per visualizzare le vendite delle borse, valigie e ombrel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4860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si può notare dal titolo della torta v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zato nel grafico solo il I T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69920"/>
            <a:ext cx="6502680" cy="668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505800"/>
            <a:ext cx="187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iamo le serie che non ci interess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ciamo solo la serie del To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5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856560" cy="461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47217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hiamo il titolo del grafico “Vendite anno 200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ICHETTE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zionare PERCENT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778120" y="21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6373800" cy="282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42920" y="41425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.S. Cliccando con il tasto destro sul grafico è possibile apportare delle modifiche all’area del disegno (bordo, carattere, colore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4:39:41Z</dcterms:created>
  <dc:creator>Roberta</dc:creator>
  <dc:description/>
  <dc:language>en-US</dc:language>
  <cp:lastModifiedBy>Roberta</cp:lastModifiedBy>
  <dcterms:modified xsi:type="dcterms:W3CDTF">2004-11-22T14:52:52Z</dcterms:modified>
  <cp:revision>2</cp:revision>
  <dc:subject/>
  <dc:title>Grafico TO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7085517</vt:r8>
  </property>
  <property fmtid="{D5CDD505-2E9C-101B-9397-08002B2CF9AE}" pid="3" name="_AuthorEmail">
    <vt:lpwstr>lesedra@libero.it</vt:lpwstr>
  </property>
  <property fmtid="{D5CDD505-2E9C-101B-9397-08002B2CF9AE}" pid="4" name="_AuthorEmailDisplayName">
    <vt:lpwstr>Roberta Pariotti</vt:lpwstr>
  </property>
  <property fmtid="{D5CDD505-2E9C-101B-9397-08002B2CF9AE}" pid="5" name="_EmailSubject">
    <vt:lpwstr>excel</vt:lpwstr>
  </property>
</Properties>
</file>